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3C7-3053-4A09-B2C5-902548FD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EFB-EE81-47CC-BA0A-A893497B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394-6145-405E-B851-F91A8655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8D5-585B-4D41-AD08-A2DC58B5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2F0-6D1C-4B10-BB4A-338981BC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13B-136A-4395-BA13-2B04ACDC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EB6-0B8A-42DD-8FD2-FA4E2D5F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0ED-FB59-491A-A228-60641744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418-3778-47DB-9D5A-8338A084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B1F-2AB9-446E-8D76-FAAC4FB2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C46-CAF4-4DF9-8962-7C085F43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5D8-F484-44AA-B4F6-41C0CAA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C5A0-C311-48BA-B307-4C657E84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be0e3"/>
                </a:solidFill>
                <a:latin typeface="Bradley Hand ITC"/>
              </a:rPr>
              <a:t>La mansió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2952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Por: Emilia Fons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66"/>
                </a:solidFill>
                <a:latin typeface="Curlz MT"/>
              </a:rPr>
              <a:t>El 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Bradley Hand ITC"/>
              </a:rPr>
              <a:t>Es 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55623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adley Hand ITC"/>
              </a:rPr>
              <a:t>Es muy grande y mod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4099"/>
                </a:solidFill>
                <a:latin typeface="Bradley Hand ITC"/>
              </a:rPr>
              <a:t>Es mi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990720"/>
            <a:ext cx="464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60199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1cb6"/>
                </a:solidFill>
                <a:latin typeface="Bradley Hand ITC"/>
              </a:rPr>
              <a:t>Es fabuloso y b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Bradley Hand ITC"/>
              </a:rPr>
              <a:t>Es mi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5867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b436"/>
                </a:solidFill>
                <a:latin typeface="Bradley Hand ITC"/>
              </a:rPr>
              <a:t>Es</a:t>
            </a:r>
            <a:r>
              <a:rPr b="1" lang="en-US" sz="1800" spc="-1" strike="noStrike">
                <a:solidFill>
                  <a:srgbClr val="e6b436"/>
                </a:solidFill>
                <a:latin typeface="Bradley Hand ITC"/>
              </a:rPr>
              <a:t> </a:t>
            </a:r>
            <a:r>
              <a:rPr b="1" lang="en-US" sz="3600" spc="-1" strike="noStrike">
                <a:solidFill>
                  <a:srgbClr val="e6b436"/>
                </a:solidFill>
                <a:latin typeface="Bradley Hand ITC"/>
              </a:rPr>
              <a:t>neuva y luj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radley Hand ITC"/>
              </a:rPr>
              <a:t>Es un ba</a:t>
            </a:r>
            <a:r>
              <a:rPr b="1" lang="en-US" sz="4400" spc="-1" strike="noStrike">
                <a:solidFill>
                  <a:srgbClr val="0000ff"/>
                </a:solidFill>
                <a:latin typeface="Bradley Hand ITC"/>
                <a:ea typeface="Arial"/>
              </a:rPr>
              <a:t>ñ</a:t>
            </a:r>
            <a:r>
              <a:rPr b="1" lang="en-US" sz="4400" spc="-1" strike="noStrike">
                <a:solidFill>
                  <a:srgbClr val="0000ff"/>
                </a:solidFill>
                <a:latin typeface="Bradley Hand ITC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60958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Bradley Hand ITC"/>
              </a:rPr>
              <a:t>Es grande y impresio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Bradley Hand ITC"/>
              </a:rPr>
              <a:t>Es un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Bradley Hand ITC"/>
              </a:rPr>
              <a:t>Es bonito a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Bradley Hand ITC"/>
              </a:rPr>
              <a:t>El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Bradley Hand ITC"/>
              </a:rPr>
              <a:t>Es moderno y estup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Bradley Hand ITC"/>
              </a:rPr>
              <a:t>Es mi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Es  bello y mo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radley Hand ITC"/>
              </a:rPr>
              <a:t>Es mi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Bradley Hand ITC"/>
              </a:rPr>
              <a:t>Es nuevo y b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8:02Z</dcterms:created>
  <dc:creator>fonsecaemi</dc:creator>
  <dc:description/>
  <dc:language>en-US</dc:language>
  <cp:lastModifiedBy>fonsecaemi</cp:lastModifiedBy>
  <dcterms:modified xsi:type="dcterms:W3CDTF">2013-04-04T15:53:37Z</dcterms:modified>
  <cp:revision>4</cp:revision>
  <dc:subject/>
  <dc:title>La mansión</dc:title>
</cp:coreProperties>
</file>